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15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B87-DBE2-4047-BD82-7577843E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learly expressed relations of part-hood, adjacency et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ssue ignored by most ontologies is the time-dependence of annotations. A particular gene product is in a particular cellular compartment at a particular time…and that can change at a subsequent time. Most current GO analyses programs do not factor in the temporal dimension, which I believe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both time and 3d structure matter. Where is a signal sensed? How fast does it travel to the next agent (and where?)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mRNA levels are just part of the story. We’ll need to integrate a lot more data 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expression, Histopathology images, Protein modifications, interaction partners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eping in mind the relative orientation (temporal and spatial) of the e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we had all the data explicitly annotated with ontologies that express these relationships, we can perform more “rich” data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pplications exist to analyze gene lists using the Gene Ontology. Very few applications attempt to “correlate” the annotations in a given GO aspect with the shapes of the gene expression profiles and annotations in the remaining two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believe that the tuple of mf, bp, cl conveys a lot more meaning than a single annotation in any one of the orthogonal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, a sentence conveying &lt;Some molecular function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biological process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cellular location&gt; is more meaningful than the three term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L provides the grammar of generating (or reducing) GO terms and demonstrates that they are more “regular” than natural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ntology provides a clear definition of basic relations in bio-medicine in an attempt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tain clear semantics of the rel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ll ontolo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ould be a lot better if we articulated our “conclusions” in an ontology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 to integrate multiple knowledge sources via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ever, simple mapping is not enough! I believe that we also need to specify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OW TO COMB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erms from different ontologies as “terminals” to create a production at a high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ead into next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A0F-41AA-4810-8C68-611B289C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0D8-8C21-4BBC-9F5E-F3E6059C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82A-E7B6-4645-BCA7-63A509C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0AD-6530-4A9B-BCEF-03938A3C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163-F3B0-4277-AEAB-89DB12EE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3AF-8A2C-4A20-AC3A-59810437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74B-766C-40DA-850E-59D72C25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31E-AFC4-4440-9507-03B6F2E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223-D2AF-4710-BE57-E6041E92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8CE-ABE5-444E-B671-1E7EF49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6BB-D603-4298-A203-B8A689B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86C-1E9C-48DA-9A76-7229AAB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EA6-5427-45A0-9CB6-D4AB1B7E53D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763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82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reat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vel visualizations fo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Time course data </a:t>
            </a: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[coming few slides later]</a:t>
            </a:r>
            <a:endParaRPr b="0" lang="en-US" sz="1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the temporal dimension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Overlay time course data onto the GO tre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See how the ‘enriched’ categories change over tim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Understand the dynamics of the biological phenomenon being studied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54200" indent="-347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Will complement pathway based analysis approaches</a:t>
            </a:r>
            <a:endParaRPr b="0" lang="en-US" sz="18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6386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about cell structure and time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3432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920" y="1211400"/>
            <a:ext cx="283356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920" y="1219320"/>
            <a:ext cx="2833560" cy="34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4480" y="2421000"/>
            <a:ext cx="5713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O based analysis of microarray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9720" y="844560"/>
            <a:ext cx="7862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F-binding site &amp; Annotation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9800" y="2514600"/>
            <a:ext cx="18925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1727280"/>
            <a:ext cx="5557680" cy="345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295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F-sites show that th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BRE and GBF sites are enriched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in these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33412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mponent and function annotations show that these genes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ocated in the chloroplast thylakoid membrane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,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t of the light-harvesting complex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and have the molecul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function of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chlorophyll binding and electron transport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ench is useful … but we need more!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971800"/>
          </a:xfrm>
          <a:prstGeom prst="rect">
            <a:avLst/>
          </a:prstGeom>
          <a:solidFill>
            <a:srgbClr val="eaeaea"/>
          </a:solidFill>
          <a:ln w="3168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ench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lps the biologist interpret a list of gen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form a result statement such as: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photosynthesis genes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located in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chloroplast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ar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repress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response to ozone stress and have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ABRE binding site enrich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their promoters.</a:t>
            </a:r>
            <a:endParaRPr b="0" lang="en-US" sz="22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e at www.personal.psu.edu/nhs109/Clench</a:t>
            </a:r>
            <a:endParaRPr b="0" lang="en-US" sz="26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ithi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440" y="152388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531972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9880" y="3200400"/>
            <a:ext cx="7621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22000">
            <a:off x="4343040" y="4626000"/>
            <a:ext cx="685800" cy="250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724280"/>
            <a:ext cx="762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124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3434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ions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twee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cxnSp>
        <p:nvCxnSpPr>
          <p:cNvPr id="72" name=""/>
          <p:cNvCxnSpPr/>
          <p:nvPr/>
        </p:nvCxnSpPr>
        <p:spPr>
          <a:xfrm flipH="1" rot="16200000">
            <a:off x="3846240" y="495720"/>
            <a:ext cx="2520" cy="5258520"/>
          </a:xfrm>
          <a:prstGeom prst="curvedConnector5">
            <a:avLst>
              <a:gd name="adj1" fmla="val 132400000"/>
              <a:gd name="adj2" fmla="val 50000"/>
              <a:gd name="adj3" fmla="val 132400000"/>
            </a:avLst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24080" y="45259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?&lt;link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334120"/>
            <a:ext cx="50292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&lt;Some MF&gt;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&lt;Some B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yoff: If we have between-ontology grammars</a:t>
            </a:r>
            <a:endParaRPr b="1" lang="en-US" sz="28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systematically stor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ations (or results)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f GO based analyse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browse [gene-expression] data in [particular ontology] centri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ew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ork of Gennari et al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creat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mantically rich annotation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that span multiple ontologi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oring GO based analysis report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763560"/>
            <a:ext cx="8096040" cy="60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49680" y="2847960"/>
            <a:ext cx="4480200" cy="11080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photosynthesis gene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repr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201000" y="4372560"/>
            <a:ext cx="1030320" cy="546120"/>
          </a:xfrm>
          <a:custGeom>
            <a:avLst/>
            <a:gdLst>
              <a:gd name="textAreaLeft" fmla="*/ 160920 w 1030320"/>
              <a:gd name="textAreaRight" fmla="*/ 871920 w 1030320"/>
              <a:gd name="textAreaTop" fmla="*/ 108720 h 546120"/>
              <a:gd name="textAreaBottom" fmla="*/ 43740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4299"/>
                </a:moveTo>
                <a:lnTo>
                  <a:pt x="16085" y="4299"/>
                </a:ln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16085" y="17301"/>
                </a:lnTo>
                <a:lnTo>
                  <a:pt x="3375" y="17301"/>
                </a:lnTo>
                <a:close/>
              </a:path>
              <a:path w="21600" h="21600">
                <a:moveTo>
                  <a:pt x="0" y="4299"/>
                </a:moveTo>
                <a:lnTo>
                  <a:pt x="675" y="4299"/>
                </a:lnTo>
                <a:lnTo>
                  <a:pt x="675" y="17301"/>
                </a:lnTo>
                <a:lnTo>
                  <a:pt x="0" y="17301"/>
                </a:lnTo>
                <a:close/>
              </a:path>
              <a:path w="21600" h="21600">
                <a:moveTo>
                  <a:pt x="1350" y="4299"/>
                </a:moveTo>
                <a:lnTo>
                  <a:pt x="2700" y="4299"/>
                </a:lnTo>
                <a:lnTo>
                  <a:pt x="2700" y="17301"/>
                </a:lnTo>
                <a:lnTo>
                  <a:pt x="1350" y="17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3440" y="5351400"/>
            <a:ext cx="4480200" cy="1346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genes of the photosynthesis protein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show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decrease in their mRNA leve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atomy centric views by Gennari et al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he cellular structure terms in FMA and the GO cellular component term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id it for 150 terms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issue-region annotations and brain anatomy terms in FM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1508040"/>
            <a:ext cx="3352680" cy="193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173480"/>
            <a:ext cx="34290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neuronal degen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b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s &lt;mf&gt; 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gam Shah</cp:lastModifiedBy>
  <dcterms:modified xsi:type="dcterms:W3CDTF">2005-11-10T23:58:18Z</dcterms:modified>
  <cp:revision>44</cp:revision>
  <dc:subject/>
  <dc:title>PowerPoint Presentation</dc:title>
</cp:coreProperties>
</file>